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91E-DC09-413F-B3AE-C3DC6024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in French and Indian W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4E0-92CB-45AF-A0F3-E93CDB29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D95-87E2-4335-9E7F-106E52C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E49-B907-445D-96E8-36452620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1FF-55CB-4735-A20C-0A248286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E8B7-F056-40CA-9CA9-C27803D7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186-CA65-4741-A17A-46518F1C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1CC6-0807-4FBA-A326-93C7156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F89-E390-430C-A1F1-4A3C5DF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3293-7FAD-449D-AD39-C1FF6C0B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72E-2CC5-4DA4-A25E-70A79179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1732-8836-4DF3-94A2-DB967EC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75F-ECC4-4C05-BE73-F59D0CF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0356-C241-4AE8-A869-A6651E8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A61E-83BA-4986-9D42-8D27CEE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CA9-66CE-436B-BAA5-5584147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E11-BF66-455D-AF07-3D8C8D9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B7B7-D046-47AB-9F54-EA493A4E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FC5-1831-4947-8926-B5D733E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B3E-3B00-42A2-9C41-244FE705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25F-6196-4F6E-ACD2-A9F3B543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7D0-BA41-4E21-A42F-38D84DE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E8B-D86D-4AD2-9A1E-3569D23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AD2-1E24-4FC3-BE5F-F5C68B10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BC3-59B9-4A2B-813D-C8F6839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0CF3-FA81-40B4-B023-EE3E63D3F6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B9C9-889B-4C79-B9F9-A2C7E86522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hapter 17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olutions and National States in the Atlantic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ACCB-F5B5-4121-BDB7-37B5A6039D6C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ilding an Independent Stat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ar-weariness sets in by 178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ish forces surrounded at Yorktown, Virgin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rrender in October 178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litary conflict ceases, treaty at Peace of Paris, 178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gnition of American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787 Constitution of the United States draf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litical and legal equality for men of proper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961-5FFF-4AD1-8D9C-D558E7E5BEB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rench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rious fiscal problems in Fr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r debts, 1780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% of tax revenues to war deb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5% of tax revenues to milit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ads to revolution more radical than the Americ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udiation of many aspects of th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ancien rég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C06-3890-4076-A183-1D9A6567835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Estates General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ree Esta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te: Roman Catholic C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te: No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te: Everyone 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4,000,000 serfs, free peasants, urban resi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tates General founded 1303, had not met since 16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ne vote per estat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99E-6FAD-499E-BCE2-F6C5E390E95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1789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test of nobility forces King Louis to call Estates General for new taxes, May 178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state demands greater social 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ne,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state sece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named “National Assembl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ly, mob attacks Bastille, bloody battle won by mo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200-2C11-4397-B6FA-C993BF47063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Declaration of Rights of Man and Citize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ugust 1789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merican influe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quality of me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men not included: Olympe de Gouges (Marie Gouze) unsucessfully attempts to redress this in 179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vereignty resides in the peop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EA8-EB95-4285-B265-342B66B2420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adicalization of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berty, equality, fraternity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ional Assembly abolishes old social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izes church lands, redefines clergy as civilia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constitution retains king, but subject to legislative author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vention: elected by universal male suffr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ffffff"/>
                </a:solidFill>
                <a:latin typeface="Times New Roman"/>
              </a:rPr>
              <a:t>Levé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en masse: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onscription for war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uillotine invented to execute domestic enem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93: King Louis and Queen Marie Antoinet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83A-1C76-4867-A52A-0AB9F96AC92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aximilien Robespierre (1758-1794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Incorruptible,” leader of “Committee of Public Safety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 of Jacobin par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minated Convention, 1793-179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urches closed, priests forced to marr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moted “Cult of Reason” as secular alternative to Christian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lendar reorganized: 10-day weeks, proclaimed Year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ecuted 40,000; imprisoned 300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33C-705A-4911-AA74-D49B43A749FD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Directory (1795-1799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volutionary enemies of the Jacobi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794 Robespierre arrested, sent to guillot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n of property take power in the form of the Direc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able to solve economic and military problems of revolutionary Fr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4AC-0E0F-4912-89B3-D28C46F9EE0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3240" y="1600200"/>
            <a:ext cx="327960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"/>
              </a:rPr>
              <a:t>Napoleon Bonaparte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510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was born of an impoverished family that held a noble title in the Republic of Genoa (Corsi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As a young child he showed no particular ability to lead and did not do well in school. (Good in mathematics - trig/cal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He was admitted to a military academy in Paris because of his noble ti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Foreign interference and slow progress of the Revolution (officers were needed) war brought him rapid promo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1795 defends the National Convention against an uprising in Paris and gained a Command in Italy for his loyal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Brilliant Success- won six major battles against the Austrians in 2 week and took 15,00 prisoners. (1795-1798 series of victori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Conditions in France were unstable due to the corruptness of the Directory in 1799, Napoleon executes a coup d'et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He becomes 1st Consul 1799-1802.  In 1802 extends his term for 10 yrs to lif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041-C342-434B-80ED-EF51B031C47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 Bonaparte (1769-1821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3341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minor Corsican nobl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y officer under King Louis XIV, general at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lliant military strateg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s Directory 1799, then overthrew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sed new constitution, named self “Consul for life” in 18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6193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FAA-9FB5-4BEE-BF46-ED0C2648270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r Sovereign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cient and medieval notions of kingship: “mandate of heaven,” “divine right of king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act of Enlightenment 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ings to be made responsible to subject popul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hn Locke (1632-1704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econd Treatise of Civil Governme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160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gues that rulers derive power from consent of rul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dividuals retain personal rights, give political rights to rul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12E-D7A9-49D4-8E7A-DF3F2ACB696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153040" cy="5210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300024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95280" y="571500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poleon’s First Wif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seph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52578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ie-Louise and son Napoleon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CB5-038C-477E-B7FE-6F02BE6C86C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ic Fra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cludes agreement with Pope: Concord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 retains church lands, but pay salaries to cler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eedom of religion, also for Protestants, J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4 promulgates Napoleonic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archal auth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model for many civil c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ght control on newspapers, use of secret po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ually declared himself Empe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93824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F9E-5F23-4726-B1F9-8D59F1B255F7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’s Empi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quered Iberian, Italian Peninsulas, Netherlan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ced Austria and Prussia to enter into alli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astrous invasion of Russia in 181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rned Moscow, but defeated by Russian weat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eneral Winte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tish, Austrian, Prussian and Russian armies force Napoleon to abdicate, 18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iled to Island of Elba, escaped to take power again for 100 day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feated by British at Waterloo, exiled to St. Helena, dies 182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7C2-38A9-4118-88DA-4A6498054ECB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’s Empire in 1812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49480" y="1600200"/>
            <a:ext cx="5043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F4B-87B2-45D2-A443-16B312F4909A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Revolution in Haiti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ly successful slave revol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land of Hispaniol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anish colony Santo Domingo in east (now Dominican Republi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 colony of Saint-Domingue in west (now Haiti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ich Caribbean colon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gar, coffee, cott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most 1/3 of France’s foreign tra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D3F-9FC3-4F9E-9EA5-109DAC70E00F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ety in Saint-Domingu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790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0,000 white French settl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ominated social struc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0,000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ens de couleu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free people of color, i.e. mixed-race, freed slav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olders of small plo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500,000 black slaves of African desc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mortality rate, many flee to mountai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oons,” escaped slav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73B-3B71-4E28-AA6A-A47DA062326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Revol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pired by American and French revolu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0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gens de couleu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sent to fight British in American War of Independ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89 white settlers demand self-rule, but with no equality for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ens de coule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91 civil war breaks ou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laves revolt under Vodou priest named Boukm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, British, Spanish forces attempt to interve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125-68E2-40DF-A668-5E0A7824896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François-Dominique Toussaint (1744-1803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names self Louverture (“the opening”), 179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cendant of slaves, freed in 177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lped his original owners escape, then joined rebel fo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ilt army of 20,000, eventually dominated Saint-Doming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1 promulgated constitution of equa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2 arrested by Napoleon’s forces, died in ja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 troops driven out, 1804 Haiti declares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80F-05DD-4DED-84C5-7BE23274A24F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Latin American Socie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0,000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eninsular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colonial officials from Iberian peninsul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.5 millio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riollos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creoles), born in the Americas of Spanish or Portuguese desc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vileged class, but grievances with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peninsul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10-1825 led movements for creole-dominated republic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 million ot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frican slaves, mixed-race popul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5CA-0A54-46A7-9AE1-98CDABCDF9C2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exican Independe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poleon’s invasion of Spain and Portugal (1807) weakens royal authority in colon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est Miguel de Hidalgo (1753-1811) leads revol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dalgo captured and executed, but rebellion continu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reole general Augustin de Iturbide (1783-1824) declares independence in 182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stalls self as Emperor, deposed in 1823, republic establish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uthern regions form federation, then divide into Guatemala, El Salvador, Honduras, Nicaragua, Costa R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5C9-9430-4E12-9102-B7BA657D070E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ividual Freedom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taire (pen name of François-Marie Arouet, 1694-177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Écrasez l’infame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erase the infamy:” criticism of Roman Catholic Chu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ean-Jacques Rousseau (1712-177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gues for equality of all individuals, regardless of class, before the la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The Social Contrac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762), argues that society is collectively the sovere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4C9-2191-425A-9B66-04F978E701E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imón Bolívar (1783-1830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d independence movement in South Ame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ive of Caracas (Venezuela), influenced by Enlightenment, George Washingt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bels against Spanish rule 1811, forced into hid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ms alliances with many creole leader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sé de San Martín (Argentina, 1778-184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rnardo O’Higgins (Chile, 1778-184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anish rule destroyed in South America by 182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3C8-9D79-4549-98BF-B2A69C74DF3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ran Colombi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olívar hoped to form U.S.-style fede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enezuela, Columbia, Equador form Gran Colomb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tempts to bring in Peru and Bolívi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rong political differences, Gran Colombia disintegra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olívar goes into self-imposed exile, dies of tuberculos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B00-8750-44B8-B615-8BD73F88F958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razilian Independe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poleon’s invasion sends Portuguese royal court to exile in Rio de Janeir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21 King returns, son Pedro left behind as reg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edro negotiates with creoles, declares independence of Brazi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comes Emperor Pedro I (r. 1822-184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 structure remains largely intac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E83-93A6-4036-8EFA-C876D20BE412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Latin America in 183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952-68F7-4CB2-B722-A76BE65FF665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mergence of Ideolog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ervativ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dmund Burke (England, 1729-179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avowed rapid revolutionary 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vored slow evolution of socie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bera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ewed conservatives as defenders of illegitimat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tatus qu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age, not stifle, social 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hn Stuart Mill (England, 1806-1873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4CE-ABA9-423F-A9E6-8EC9E72AE2AB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End of the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mpaign to end slavery begins in 1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laudah Equiano (1745-179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ains momentum after American, French and Haitian revolu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lliam Wilberforce (England, 1759-1833), philanthropist, succeeds in having Parliament outlaw slave trade, 180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states follow suit, but illegal trade continues until 18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3B6-67CF-45FA-8EEF-B284BB80396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nd of the Institution of Slav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iti: slavery ends with rev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xico slavery abolished 1829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rtially to stop U.S. development of slave-based cotton industry in Mex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33 Britain abolishes slavery, offers compensation to former own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states follow, but offer freedom without equa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perty requirements, literacy tests, etc. block vo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A49-4C3F-425E-9369-993DA01E85CD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nlightenment Ideals and Wome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lightenment thinkers remained conservative regarding women’s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usseau argues women should receive education to prepare for lives as wives and moth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ry Astell (England, 1666-1731) argues that women essentially born into slav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ry Wollstonecraft (England, 1759-1797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A Vindication of the Rights of Wom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79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861-BF32-4281-B7B0-C0DD8B2630A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omen and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men active in all phases of French rev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men storm Versailles in 1789, demands for f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ublican Revolutionary Women patrol streets of Paris with firear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t hold few official positions of author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volution grants equality in education, property, legalized divor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t women not allowed to vote, major task of 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izabeth Cady Stanton (U.S., 1815-190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862-94AF-4AA9-9627-EBC0CB21DEF0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Principles of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) Revolution does not occur when conditions are at their worst, but rather when things are getting bet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) Revolutions are begun by a small group/ elite of well- educated individuals who demand changes and inspire other people to fol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) Revolutions tend to only change the leadership at the top and not the system of gover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4) Revolutions cause economic disruption and dislocation which usually leads to an economic crisis, there-by putting pressure on the gov't to take harsh/drastic action.  There is a             likelihood these actions will be dictato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5) Revolutions once begun must achieve order very quickly or anarchy will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6) As things go wrong, revolutionary gov'ts tend to use the very oppressive, dictatorial methods they sought to chan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7) Revolutions establish a new status quo which they eventually must defend.  Thus the revolutionary becomes a reactiona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8) In reality revolutions change very lit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858-3FAC-4C41-A51C-4C5338E7B80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volution in Ame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tle indication of forthcoming revolution in mid-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3 colonies regarded themselves as British subj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ng cultural and personal connections with Eng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utually profitable military and economic relationsh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34B-4A6D-4323-B348-C166B23C06DC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tions and National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ion” a type of community, especially prominent in 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tinct from clan, religious, regional ident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ually based on shared language, customs, values, historical experie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metimes common relig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 of nation has immediate relationship with political bounda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E67-9AA9-4153-BEF3-AE562D61500E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ypes of National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ltural nationa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hann Gottfried von Herder (1744-1803) praises th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ol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“people”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erature, folklore, music as expressions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olksgeis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“spirit of the peopl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litical nationa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vement for political independence of nation from other author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fication of national lan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iuseppe Mazzini (1805-1872), “Young Italy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DD0-57BF-4367-B4DE-BB7DCEC90F55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tionalism and Anti-Semit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tionalist ideologies distrustful of indigenous minor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Pogrom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violent attacks on Jewish communities in Russian Empire beginning 188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i-Semitism rallying cry of many European nationali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 military Captain Alfred Dreyfus framed for selling military secrets to German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ventually exonerated, but great debate on loyalty of Jews in European socie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7CB-6F7D-4E36-9B1F-3A85226CE6FC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Zio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dor Herzl (Austria, 1860-1904) journalist at Dreyfus tr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bserved intense mob anti-semitism, concluded that Enlightenment and revolution could not solve this human i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ed to create refuge for Jews by re-establishing Jewish state in Palest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Zion synonymous with Jerusa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97 convened first World Zionist Congr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85D-72D5-4317-9CE8-BEBE784913F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Congress of Vienna (1814-1815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eting after defeat of Napole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nce Klemens von Metternich (Austria, 1773-1859) supervises dismantling of Napoleon’s empi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blished balance of po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ed to suppress development of nationalism among multi-national empires like the Austri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F54-2657-4C55-A62C-C465E189C5EA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tional Rebell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eeks in Balkan peninsula seek independence from Ottoman Turks, 182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ith European help, Greece achieves independence in 18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bellions all over Europe, especially in 1848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bels take Vienna, Metternich resigns and fl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t rebellions put down by 184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C88-2AF6-4AF4-8D5F-C7F306DD45C3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Unifications of Italy and German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taly and Germany formerly disunited groups of regional kingdoms, city-states, ecclesiastical sta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ermany: over three hundred semiautonomous jurisdic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tionalist sentiment develops idea of unif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unt Camillo di Cavour (1810-1861) and Giuseppe Garibaldi (1807-1882) unify Italy under King Vitttore Emmanuele 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tto von Bismarck (1815-1898) advances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Realpolit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“the politics of reality”), uses wars with neighbors to unify German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Reich proclaimed in 1871 (Holy Roman Empire the first), King Wilhelm I named Emper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752-3924-434D-BDBC-4EC935379B5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Unification of Germany and Ital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2013120"/>
            <a:ext cx="8229600" cy="37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860-48FA-4EBC-AC2D-40A5EF0A6103}" type="slidenum">
              <a:t>47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French and Indian War, 1754-1763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ensive, extens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lapped with Seven Years’ War (1756-1763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lict in Europe, In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tish victory ensured global dominance, North American prospe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66C-53F7-4DEE-9718-FB73E9F2A8EA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creased Taxation in 1760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lls come due from the Seven Years’ W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x burden falls to the colon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gar Act (176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amp Act (176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Quartering Act (1765) (Housing British Troop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a Act (1773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118-A6DB-4CB8-8E97-861F654A401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Declaration of Independe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ish products boycotted, officials attack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te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ston Tea Party (1773), tea dumped into Boston harbor in protest against Tea A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taxation without representation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inental Congress formed (1774), coordinates colonists’ resistance to British poli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ly 4, 1776, adopts Declaration of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luence of Locke: retention of individual rights, sovereignty based on consent of the rul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C48-EA61-4CDB-9484-B78524C54BF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volutionary W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stic adva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r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of British riv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rge Washington (1732-1799) provides imaginative military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ta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entral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vy, ar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ist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6A7-0CAA-4EC6-A6AE-57EBF7B7EF8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merican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920" y="1600200"/>
            <a:ext cx="41227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A7D-9473-4045-8A79-2EF7CA265642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43:03Z</dcterms:created>
  <dc:creator>Henry Abramson</dc:creator>
  <dc:description/>
  <dc:language>en-US</dc:language>
  <cp:lastModifiedBy>ripkensa</cp:lastModifiedBy>
  <dcterms:modified xsi:type="dcterms:W3CDTF">2010-02-01T16:54:59Z</dcterms:modified>
  <cp:revision>20</cp:revision>
  <dc:subject/>
  <dc:title>Chapter 29</dc:title>
</cp:coreProperties>
</file>